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28E4-D59B-441B-AFBF-0BF41F81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5665-0B5A-4597-8522-C389579A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85E9-A172-451C-9D25-0BEB820C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F06-C23D-4332-BB1C-F143AD7E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F62C-09EE-469E-A6D5-19BAFF2B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9AE1-1E85-4E81-BAF6-120A6624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AC80-02D9-420D-A754-0B71E847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8EDB-DB1E-47FE-9E47-E15F69A5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0E68-AE26-492E-820F-C7CB7115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C088-1EB8-4E83-A786-95514AB3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2BFB-C6AF-49D9-AA79-8342EC3F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4644-7C08-4A47-B433-4E8D8C50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89D1-B98F-419E-B55A-7C7F3F13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6DE6-1B2D-4826-BB76-809A339A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AB69-5F07-4EBD-8D38-C1C3FAB0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F40F-4B64-458D-9FE6-377CB347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99FD-56F8-41DE-A33E-DA707BFE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BBE2-1F7A-4234-9F51-AB642F01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4606-3002-402E-97EC-32139D20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C87F-EF49-4D28-9AAB-60A35B72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7AED-9E8D-4BB2-BE72-B289893B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D8C8-79AD-46B5-AA9E-787A30CF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ECB8-BC57-4651-B04F-FAF93413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A700-4F49-4ED6-9720-471B40CF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FC5A-D16B-4210-8B81-97D493136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CD5C-5E4D-45B3-8B4F-2861B3AAC6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3962160"/>
            <a:ext cx="830556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Mis Vacaciones en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Barcelona, Españ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5866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les Dassoni A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9" descr="SpainF"/>
          <p:cNvPicPr/>
          <p:nvPr/>
        </p:nvPicPr>
        <p:blipFill>
          <a:blip r:embed="rId1"/>
          <a:stretch/>
        </p:blipFill>
        <p:spPr>
          <a:xfrm>
            <a:off x="2362320" y="0"/>
            <a:ext cx="4419360" cy="3354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l30990-1.jpg"/>
          <p:cNvPicPr/>
          <p:nvPr/>
        </p:nvPicPr>
        <p:blipFill>
          <a:blip r:embed="rId2"/>
          <a:stretch/>
        </p:blipFill>
        <p:spPr>
          <a:xfrm>
            <a:off x="0" y="0"/>
            <a:ext cx="2362320" cy="358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l30990-1.jpg"/>
          <p:cNvPicPr/>
          <p:nvPr/>
        </p:nvPicPr>
        <p:blipFill>
          <a:blip r:embed="rId3"/>
          <a:stretch/>
        </p:blipFill>
        <p:spPr>
          <a:xfrm>
            <a:off x="6788160" y="0"/>
            <a:ext cx="23558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42840" y="15228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 Hote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5257800"/>
            <a:ext cx="8007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Mi hotel se llama hotel Majestic. Es un hotel muy bonito y muy grande. Localizado en el centro de la ciu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Hotel_Majestic,_Barcelona-view"/>
          <p:cNvPicPr/>
          <p:nvPr/>
        </p:nvPicPr>
        <p:blipFill>
          <a:blip r:embed="rId1"/>
          <a:stretch/>
        </p:blipFill>
        <p:spPr>
          <a:xfrm>
            <a:off x="228600" y="914400"/>
            <a:ext cx="3505320" cy="2363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hotel-majestic-barcelona"/>
          <p:cNvPicPr/>
          <p:nvPr/>
        </p:nvPicPr>
        <p:blipFill>
          <a:blip r:embed="rId2"/>
          <a:stretch/>
        </p:blipFill>
        <p:spPr>
          <a:xfrm>
            <a:off x="4114800" y="1219320"/>
            <a:ext cx="4216320" cy="323856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14440" y="228600"/>
            <a:ext cx="472428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 Black"/>
              </a:rPr>
              <a:t>What I Bough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3580920"/>
            <a:ext cx="35816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030a0"/>
                </a:solidFill>
                <a:latin typeface="Arial"/>
              </a:rPr>
              <a:t>Compré un par de zapatos de cuero. También compré un vino Español muy bueno y muy ca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69fe56a95b"/>
          <p:cNvPicPr/>
          <p:nvPr/>
        </p:nvPicPr>
        <p:blipFill>
          <a:blip r:embed="rId1"/>
          <a:stretch/>
        </p:blipFill>
        <p:spPr>
          <a:xfrm>
            <a:off x="457200" y="228600"/>
            <a:ext cx="3352680" cy="3200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FJ-8"/>
          <p:cNvPicPr/>
          <p:nvPr/>
        </p:nvPicPr>
        <p:blipFill>
          <a:blip r:embed="rId2"/>
          <a:stretch/>
        </p:blipFill>
        <p:spPr>
          <a:xfrm>
            <a:off x="4572000" y="1219320"/>
            <a:ext cx="3824280" cy="5410080"/>
          </a:xfrm>
          <a:prstGeom prst="rect">
            <a:avLst/>
          </a:prstGeom>
          <a:ln w="0">
            <a:noFill/>
          </a:ln>
        </p:spPr>
      </p:pic>
    </p:spTree>
  </p:cSld>
  <p:transition advTm="6000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45280" y="0"/>
            <a:ext cx="2898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LU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3276360"/>
            <a:ext cx="87692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cc"/>
                </a:solidFill>
                <a:latin typeface="Arial"/>
              </a:rPr>
              <a:t>El lunes fui a la playa. Estuve ahí por 3 horas. Me fui a caminar por el pueblo. Tuve un almuerzo y estaba delicioso. Después de eso me fui y compré algunos recuerdos y tambien compre un reloj Rolex. Vi un letrero que decía "NO A LAS DROGAS Y, SI A LOS TACOS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Rolex Datejust Royal Black luxury watch (3)"/>
          <p:cNvPicPr/>
          <p:nvPr/>
        </p:nvPicPr>
        <p:blipFill>
          <a:blip r:embed="rId1"/>
          <a:stretch/>
        </p:blipFill>
        <p:spPr>
          <a:xfrm>
            <a:off x="609480" y="304920"/>
            <a:ext cx="3124440" cy="2963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I_Love_Tacos"/>
          <p:cNvPicPr/>
          <p:nvPr/>
        </p:nvPicPr>
        <p:blipFill>
          <a:blip r:embed="rId2"/>
          <a:stretch/>
        </p:blipFill>
        <p:spPr>
          <a:xfrm>
            <a:off x="3886200" y="762120"/>
            <a:ext cx="2514600" cy="2466720"/>
          </a:xfrm>
          <a:prstGeom prst="rect">
            <a:avLst/>
          </a:prstGeom>
          <a:ln w="0">
            <a:noFill/>
          </a:ln>
        </p:spPr>
      </p:pic>
    </p:spTree>
  </p:cSld>
  <p:transition advTm="17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2895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 Black"/>
              </a:rPr>
              <a:t>MART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0040" y="3352320"/>
            <a:ext cx="61786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El segundo día me fui en vehículos cómico todo el terreno y realizé una gira por Barcelona. Fue muy divertido. Yo vi muchos lugares  interesantes. Uno de ellos fue el Museo de Picas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6" descr="lambo-atv-1.jpg"/>
          <p:cNvPicPr/>
          <p:nvPr/>
        </p:nvPicPr>
        <p:blipFill>
          <a:blip r:embed="rId1"/>
          <a:stretch/>
        </p:blipFill>
        <p:spPr>
          <a:xfrm>
            <a:off x="4419720" y="304920"/>
            <a:ext cx="4286160" cy="2847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Picasso-Museum.jpg"/>
          <p:cNvPicPr/>
          <p:nvPr/>
        </p:nvPicPr>
        <p:blipFill>
          <a:blip r:embed="rId2"/>
          <a:stretch/>
        </p:blipFill>
        <p:spPr>
          <a:xfrm>
            <a:off x="152280" y="1143000"/>
            <a:ext cx="3348000" cy="342900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325"/>
                </a:solidFill>
                <a:latin typeface="Arial Black"/>
              </a:rPr>
              <a:t>Miercoles-Viernes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7720" y="4114440"/>
            <a:ext cx="8007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Me hizo muy poco del Miercoles-Viernes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o estaba muy flojo.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l viernes yo </a:t>
            </a:r>
            <a:r>
              <a:rPr b="0" lang="es-ES" sz="3200" spc="-1" strike="noStrike">
                <a:solidFill>
                  <a:srgbClr val="161616"/>
                </a:solidFill>
                <a:latin typeface="Arial"/>
              </a:rPr>
              <a:t>regrese a mi casa en un jet privado. Yo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soy Stuntt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3" descr="lazy_couch_potato.jpg"/>
          <p:cNvPicPr/>
          <p:nvPr/>
        </p:nvPicPr>
        <p:blipFill>
          <a:blip r:embed="rId1"/>
          <a:stretch/>
        </p:blipFill>
        <p:spPr>
          <a:xfrm>
            <a:off x="380880" y="838080"/>
            <a:ext cx="3378240" cy="3200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private_jet_gulfstream_sm8u.jpg"/>
          <p:cNvPicPr/>
          <p:nvPr/>
        </p:nvPicPr>
        <p:blipFill>
          <a:blip r:embed="rId2"/>
          <a:stretch/>
        </p:blipFill>
        <p:spPr>
          <a:xfrm>
            <a:off x="4876920" y="990720"/>
            <a:ext cx="3740040" cy="3211560"/>
          </a:xfrm>
          <a:prstGeom prst="rect">
            <a:avLst/>
          </a:prstGeom>
          <a:ln w="0">
            <a:noFill/>
          </a:ln>
        </p:spPr>
      </p:pic>
    </p:spTree>
  </p:cSld>
  <p:transition advTm="8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39:42Z</dcterms:created>
  <dc:creator>dassonimil</dc:creator>
  <dc:description/>
  <dc:language>en-US</dc:language>
  <cp:lastModifiedBy>Dassoni Family 2010</cp:lastModifiedBy>
  <dcterms:modified xsi:type="dcterms:W3CDTF">2011-12-04T21:40:30Z</dcterms:modified>
  <cp:revision>34</cp:revision>
  <dc:subject/>
  <dc:title>Slide 1</dc:title>
</cp:coreProperties>
</file>